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B375-D11E-4A44-9F81-B3F6C0C9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FFDF-1C2F-42DE-ABCD-C47061FA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B49A-F727-4555-BAD4-BD30EE881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4BFA7-1977-4D8C-8C12-C6A0E8B12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4CF8F-7FCA-47C3-8F81-28948B622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9C6A-E8B6-4802-926D-A4EF82658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3543-2DF5-4BE7-9855-580E8D6C5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C317-EDCF-4C9E-A83A-6AE03D78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7788-A5A6-431A-8E3C-0FA25D18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9847-F174-4C18-A85E-8656A69DE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AFEA-10FF-4AB5-9D54-E5E3AFC12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EBC7-C47C-4E31-9E98-5149F13D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E225-87A3-4203-8A00-304008DE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8B3F6-DFDB-4BCD-8C35-ADFAA8209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F055D-34AB-49CF-8018-83702497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80E75-600E-4515-8E33-C8B9E28D0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8637-1FE6-4204-A23B-C9F3E5DC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F897-6281-4722-BD39-149C72A22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3D76-DF58-42CB-B642-BB64BEC6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792-B2CC-4BCA-AB64-6A0005F5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3AB8-69C4-4285-A09F-1E24E1216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252D-1A37-4C3F-9840-5A3AAFC2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6BF4-CFE3-41C6-87BC-2B68A63D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E030-1C48-4FF9-94B9-3E930740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C0A6-597F-425E-A19B-6CA83D866BA5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5FF5-3DE4-415D-851F-B9D3CC9F58E6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thletesforhope.org/muhammadali.html" TargetMode="External"/><Relationship Id="rId2" Type="http://schemas.openxmlformats.org/officeDocument/2006/relationships/hyperlink" Target="http://www.athletesforhope.org/muhammadali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6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361960"/>
            <a:ext cx="4724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Melissa Motter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“Champions aren't made in the gyms. Champions are made from something they have deep inside them -- a desire, a dream, a vision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Muhammad Ali, American Box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743200" y="1066680"/>
            <a:ext cx="21844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af7d"/>
                </a:solidFill>
                <a:latin typeface="Arial"/>
              </a:rPr>
              <a:t>Choose where you want to go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Who am I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4" action="ppaction://hlinksldjump"/>
              </a:rPr>
              <a:t>Project-based learning in my classroom (or should I say gym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6" action="ppaction://hlinksldjump"/>
              </a:rPr>
              <a:t>How is the Multimedia I use interactiv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8" action="ppaction://hlinksldjump"/>
              </a:rPr>
              <a:t>Self-assessment of course skill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>
            <a:hlinkClick r:id="" action="ppaction://hlinkshowjump?jump=firstslide"/>
          </p:cNvPr>
          <p:cNvPicPr/>
          <p:nvPr/>
        </p:nvPicPr>
        <p:blipFill>
          <a:blip r:embed="rId9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9af7d"/>
                </a:solidFill>
                <a:latin typeface="Arial"/>
              </a:rPr>
              <a:t>Who exactly is Melissa Motter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920" y="12952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Elementary Physical Education Teacher in Central Pennsylvan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36232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I love playing any sport!  Growing up I played basketball, softball and volleyball.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36576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Married to a wonderful man who is a High School Math Teacher in the same district as m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5029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Mother of two kids, our dog named Rudy and our cat named Copper (better known as “Mini”) </a:t>
            </a:r>
            <a:r>
              <a:rPr b="0" lang="en-US" sz="2400" spc="-1" strike="noStrike">
                <a:solidFill>
                  <a:srgbClr val="f7d47d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af7d"/>
                </a:solidFill>
                <a:latin typeface="Arial"/>
              </a:rPr>
              <a:t>Project-based Learning in My Gym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28600" y="144792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Helps students retain a lot more knowledg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266688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Helps students develop organizational and research skill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380988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Energizes students and makes them actually WANT to learn and be in schoo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50292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Gives students a choice and a sense of ownership to what they are learn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af7d"/>
                </a:solidFill>
                <a:latin typeface="Arial"/>
              </a:rPr>
              <a:t>How is my Multimedia Interactive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1676520"/>
            <a:ext cx="3733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Dance-Dance Revolution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Students can choose a song to dance to depending on ability (speed and rhythm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114800"/>
            <a:ext cx="3733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Fitness Tests Scores Using Excel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Students can keep track and graph scores in computer lab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1676520"/>
            <a:ext cx="3657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Heart Rate Monitors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Students can track their own pulse and figure out how much exercise they are gett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4114800"/>
            <a:ext cx="3733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Video Camaras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We can video students performing skills and analyze their strengths and weakness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af7d"/>
                </a:solidFill>
                <a:latin typeface="Arial"/>
              </a:rPr>
              <a:t>Self-Assessment of Course Skill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61340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334120" y="1523880"/>
            <a:ext cx="1295280" cy="1239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1295280" y="1447920"/>
            <a:ext cx="1371600" cy="1261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920" y="2895480"/>
            <a:ext cx="3504960" cy="31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7d47d"/>
                </a:solidFill>
                <a:uFillTx/>
                <a:latin typeface="Arial"/>
              </a:rPr>
              <a:t>STRENGTH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Inserting Hyperlink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Adding Images and Text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Planning Project ahead of tim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Selecting media to enhance powerpoi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Creating Rubrics for Project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2895480"/>
            <a:ext cx="3429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7d47d"/>
                </a:solidFill>
                <a:uFillTx/>
                <a:latin typeface="Arial"/>
              </a:rPr>
              <a:t>WEAKNESS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Recording a narration and adding it to PowerPoi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Using Google Doc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Using Wikispa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Building an Online Portfolio (never had experience with this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14:16:29Z</dcterms:created>
  <dc:creator>BM</dc:creator>
  <dc:description/>
  <dc:language>en-US</dc:language>
  <cp:lastModifiedBy>BM</cp:lastModifiedBy>
  <dcterms:modified xsi:type="dcterms:W3CDTF">2009-06-06T16:45:22Z</dcterms:modified>
  <cp:revision>22</cp:revision>
  <dc:subject/>
  <dc:title>Slide 1</dc:title>
</cp:coreProperties>
</file>