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4F4-FAC6-47AA-A265-03B52E50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BF6-DC9A-412F-A45E-21201C17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102-2DA5-497D-B086-C8BAF1DF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B49-2F5F-4D11-9DC4-BFF87622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B276-853F-455A-997F-BC90A1FB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9850-2314-4336-9411-A38C803D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EC33-4FA5-4826-AB44-F0F5995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8CB4-6A4C-44B2-A85E-51BE97D7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27B7-E6C9-4575-A99D-BB9D4C5C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A7B8-C3BA-4755-8172-A522E83E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24BA-42BD-441A-A7C2-F268B6E4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A95-D980-4011-AAE3-50A85AFB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438F-A19C-47D3-8E9F-E41ADA7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0414-99CF-49C5-9966-8A663E11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248F-DE50-428C-97B7-7FE5B70E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DC68-9C0F-4370-B437-E54EA3A0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197F-0C63-4538-AA26-F95F861C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8E8-B60B-464D-A499-336B7095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279-39EF-4F16-8CA8-9D1FA3F5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E1C-A3F8-4002-BDF2-D6F6E50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598-6451-4313-A543-04D4A636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4C0-FDB9-487C-9AD4-7AB7B4F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D69-1AB0-4232-A72A-B74F14C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1A5-A4AD-4CBC-9CA5-AF130A6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7644-5359-48D6-B148-D591B1B1C80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5635-9A66-411C-8599-567A256F73F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thletesforhope.org/muhammadali.html" TargetMode="External"/><Relationship Id="rId2" Type="http://schemas.openxmlformats.org/officeDocument/2006/relationships/hyperlink" Target="http://www.athletesforhope.org/muhammadali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36196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elissa Motte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“Champions aren't made in the gyms. Champions are made from something they have deep inside them -- a desire, a dream, a vision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Muhammad Ali, American Box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743200" y="1066680"/>
            <a:ext cx="21844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Choose where you want to go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Who am I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Project-based learning in my classroom (or should I say gym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How is the Multimedia I use interactiv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8" action="ppaction://hlinksldjump"/>
              </a:rPr>
              <a:t>Self-assessment of course skil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9af7d"/>
                </a:solidFill>
                <a:latin typeface="Arial"/>
              </a:rPr>
              <a:t>Who exactly is Melissa Motter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920" y="1295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ementary Physical Education Teacher in Central Pennsylvan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3623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I love playing any sport!  Growing up I played basketball, softball and volleyball.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6576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arried to a wonderful man who is a High School Math Teacher in the same district as 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5029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other of two kids, our dog named Rudy and our cat named Copper (better known as “Mini”) </a:t>
            </a:r>
            <a:r>
              <a:rPr b="0" lang="en-US" sz="24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Project-based Learning in My Gy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14479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Helps students retain a lot more knowled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6668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Helps students develop organizational and research skill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38098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nergizes students and makes them actually WANT to learn and be in schoo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5029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Gives students a choice and a sense of ownership to what they are learn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How is my Multimedia Interactive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167652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Dance-Dance Revolution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choose a song to dance to depending on ability (speed and rhythm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11480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Fitness Tests Scores Using Excel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keep track and graph scores in computer la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76520"/>
            <a:ext cx="3657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Heart Rate Monitors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track their own pulse and figure out how much exercise they are gett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411480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Video Camaras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We can video students performing skills and analyze their strengths and weaknes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Self-Assessment of Course Skill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6134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1295280" cy="12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1295280" y="1447920"/>
            <a:ext cx="1371600" cy="1261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2895480"/>
            <a:ext cx="350496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STRENGTH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Inserting Hyperlink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Adding Images and Tex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Planning Project ahead of tim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Selecting media to enhance powerpoi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Creating Rubrics for Projec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2895480"/>
            <a:ext cx="3429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WEAKNESS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Recording a narration and adding it to PowerPoi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Using Google Do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Using Wikispa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Building an Online Portfolio (never had experience with this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16:29Z</dcterms:created>
  <dc:creator>BM</dc:creator>
  <dc:description/>
  <dc:language>en-US</dc:language>
  <cp:lastModifiedBy>BM</cp:lastModifiedBy>
  <dcterms:modified xsi:type="dcterms:W3CDTF">2009-06-06T16:45:22Z</dcterms:modified>
  <cp:revision>22</cp:revision>
  <dc:subject/>
  <dc:title>Slide 1</dc:title>
</cp:coreProperties>
</file>