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33E-1FE6-4BA3-8CFB-466A01D7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A61-58A5-4CA0-833E-051890C2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AB6-1416-40E4-8B0B-8FEB1805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837-CF71-41B8-8160-A51B3E7A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4763-6833-4AE0-8A39-AEE20111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1CF9-5C14-4016-82AA-1CEFFFF9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CA13-8308-4F8C-8B3F-FCEA70EA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AF11-1D51-4002-9333-CC1E977B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11D7-3F00-4105-9E50-3EE1D4FB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FF04-D9FA-44BD-B6D8-F01D78BB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2325-1344-4CB4-ABCC-707A91F6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B32-7EBB-4AA0-B43D-EC95D5DC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27EE-35D9-4EAB-825A-749F08F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237B-11C1-4021-B3DC-3B24AE7F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F9DE-F483-4227-BEBC-842F8D19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D3F0-84AA-4E5B-B02A-5F0DB4E2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B89B-1BAE-49B5-9F38-EC162B4B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EFE-084B-4790-ADEF-037F8A46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62C-5545-4A30-914D-CD56E87A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AAD-9A58-4618-8343-17802ACF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F32-A8AF-451B-9E73-72A45366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005-06F5-4DDB-B86E-796BAB9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923-9BE0-4448-8DC8-8614FD4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943-4EAA-45F8-BB1D-EAA022B5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0F6C-3F3B-4E94-9005-A0331E8F508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3B39-A6DD-4249-B87F-4F9A0BE70FF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thletesforhope.org/muhammadali.html" TargetMode="External"/><Relationship Id="rId2" Type="http://schemas.openxmlformats.org/officeDocument/2006/relationships/hyperlink" Target="http://www.athletesforhope.org/muhammadali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6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36196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elissa Motte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“Champions aren't made in the gyms. Champions are made from something they have deep inside them -- a desire, a dream, a vision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Muhammad Ali, American Box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743200" y="1066680"/>
            <a:ext cx="21844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Choose where you want to go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Who am I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Project-based learning in my classroom (or should I say gym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How is the Multimedia I use interactiv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8" action="ppaction://hlinksldjump"/>
              </a:rPr>
              <a:t>Self-assessment of course skil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9af7d"/>
                </a:solidFill>
                <a:latin typeface="Arial"/>
              </a:rPr>
              <a:t>Who exactly is Melissa Motter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920" y="12952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lementary Physical Education Teacher in Central Pennsylvan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3623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I love playing any sport!  Growing up I played basketball, softball and volleyball.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36576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Married to a wonderful man who is a High School Math Teacher in the same district as m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5029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Mother of two kids, our dog named Rudy and our cat named Copper (better known as “Mini”) </a:t>
            </a:r>
            <a:r>
              <a:rPr b="0" lang="en-US" sz="24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Project-based Learning in My Gy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144792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Helps students retain a lot more knowled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66688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Helps students develop organizational and research skill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380988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nergizes students and makes them actually WANT to learn and be in schoo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50292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Gives students a choice and a sense of ownership to what they are learn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How is my Multimedia Interactive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167652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Dance-Dance Revolution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choose a song to dance to depending on ability (speed and rhythm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11480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Fitness Tests Scores Using Excel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keep track and graph scores in computer la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76520"/>
            <a:ext cx="3657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Heart Rate Monitors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track their own pulse and figure out how much exercise they are gett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411480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Video Camaras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We can video students performing skills and analyze their strengths and weakness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Self-Assessment of Course Skill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6134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1295280" cy="1239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1295280" y="1447920"/>
            <a:ext cx="1371600" cy="1261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2895480"/>
            <a:ext cx="350496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STRENGTH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Inserting Hyperlink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Adding Images and Tex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Planning Project ahead of tim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Selecting media to enhance powerpoi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Creating Rubrics for Projec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2895480"/>
            <a:ext cx="3429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WEAKNESS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Recording a narration and adding it to PowerPoi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Using Google Do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Using Wikispa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Building an Online Portfolio (never had experience with this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4:16:29Z</dcterms:created>
  <dc:creator>BM</dc:creator>
  <dc:description/>
  <dc:language>en-US</dc:language>
  <cp:lastModifiedBy>BM</cp:lastModifiedBy>
  <dcterms:modified xsi:type="dcterms:W3CDTF">2009-06-06T16:45:22Z</dcterms:modified>
  <cp:revision>22</cp:revision>
  <dc:subject/>
  <dc:title>Slide 1</dc:title>
</cp:coreProperties>
</file>