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3CDE-1BFB-40F4-9C42-C44DA49C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0B79-E0A5-4C97-8FA4-81003B17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AE69-E7E1-4F28-892A-89D017882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7930-3726-4F37-985D-5C7752268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84FD6-0D11-4460-A533-0EEBEEBE8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A33D-0AD3-4D3D-AB7E-07F3C4AB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2BB50-8BC2-4106-AC90-ADBB28BDB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B9E73-8796-48CB-99BD-21FE9B40F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0532-21DD-40AD-9AF7-961C78AF4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83DD-287A-4511-A30B-3A788ABEF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EF32-0AF9-4769-9EC5-9F6AE24F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FA1B-99CB-49B8-9606-A27D3E44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7A44C-2AE7-42BD-8242-01A8EB61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0B4F3-CC61-47B7-8B8B-4F6C4D31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82E4-77D9-4C6A-ACE8-64B63C81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A313-6BED-4070-B720-818E6A5A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33E9-2A45-4936-9A8E-AA32E455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A70-A60C-4325-9203-8052327D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08DF-02CB-4093-8F35-5EDFDD88D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D50B-EF04-4C9C-B3BB-D625E166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28E3-0A0A-4196-BC1C-56A68575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60E6-53DB-4480-AB6C-66AD0833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520-35D5-474E-BB9E-0AA539A5E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0E6D-877E-4313-BE0A-1F0C8E73C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C2A21-62A4-4333-A51D-4A5DAE500DCC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278B-E131-4399-B7E8-1E88E9B767D9}" type="slidenum">
              <a:rPr b="0" lang="en-U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athletesforhope.org/muhammadali.html" TargetMode="External"/><Relationship Id="rId2" Type="http://schemas.openxmlformats.org/officeDocument/2006/relationships/hyperlink" Target="http://www.athletesforhope.org/muhammadali.html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slide" Target="slide4.xml"/><Relationship Id="rId5" Type="http://schemas.openxmlformats.org/officeDocument/2006/relationships/image" Target="../media/image3.png"/><Relationship Id="rId6" Type="http://schemas.openxmlformats.org/officeDocument/2006/relationships/slide" Target="slide5.xml"/><Relationship Id="rId7" Type="http://schemas.openxmlformats.org/officeDocument/2006/relationships/image" Target="../media/image3.png"/><Relationship Id="rId8" Type="http://schemas.openxmlformats.org/officeDocument/2006/relationships/slide" Target="slide6.xm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04760" y="2361960"/>
            <a:ext cx="4724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7d47d"/>
                </a:solidFill>
                <a:latin typeface="Arial"/>
              </a:rPr>
              <a:t>Melissa Motter</a:t>
            </a:r>
            <a:endParaRPr b="0" lang="en-US" sz="44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685800" y="388584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1"/>
              </a:rPr>
              <a:t>“Champions aren't made in the gyms. Champions are made from something they have deep inside them -- a desire, a dream, a vision.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/>
              </a:rPr>
              <a:t>Muhammad Ali, American Boxe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3"/>
          <a:stretch/>
        </p:blipFill>
        <p:spPr>
          <a:xfrm>
            <a:off x="2743200" y="1066680"/>
            <a:ext cx="218448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9af7d"/>
                </a:solidFill>
                <a:latin typeface="Arial"/>
              </a:rPr>
              <a:t>Choose where you want to go…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2" action="ppaction://hlinksldjump"/>
              </a:rPr>
              <a:t>Who am I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4" action="ppaction://hlinksldjump"/>
              </a:rPr>
              <a:t>Project-based learning in my classroom (or should I say gym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6" action="ppaction://hlinksldjump"/>
              </a:rPr>
              <a:t>How is the Multimedia I use interactive?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0b854"/>
                </a:solidFill>
                <a:uFillTx/>
                <a:latin typeface="Arial"/>
                <a:hlinkClick r:id="rId8" action="ppaction://hlinksldjump"/>
              </a:rPr>
              <a:t>Self-assessment of course skill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198" name="" descr="">
            <a:hlinkClick r:id="" action="ppaction://hlinkshowjump?jump=firstslide"/>
          </p:cNvPr>
          <p:cNvPicPr/>
          <p:nvPr/>
        </p:nvPicPr>
        <p:blipFill>
          <a:blip r:embed="rId9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9af7d"/>
                </a:solidFill>
                <a:latin typeface="Arial"/>
              </a:rPr>
              <a:t>Who exactly is Melissa Motter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920" y="129528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lementary Physical Education Teacher in Central Pennsylvan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4920" y="236232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I love playing any sport!  Growing up I played basketball, softball and volleyball.</a:t>
            </a:r>
            <a:r>
              <a:rPr b="0" lang="en-US" sz="2800" spc="-1" strike="noStrike">
                <a:solidFill>
                  <a:srgbClr val="f7d47d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36576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Married to a wonderful man who is a High School Math Teacher in the same district as me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4920" y="50292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Mother of two kids, our dog named Rudy and our cat named Copper (better known as “Mini”) </a:t>
            </a:r>
            <a:r>
              <a:rPr b="0" lang="en-US" sz="2400" spc="-1" strike="noStrike">
                <a:solidFill>
                  <a:srgbClr val="f7d47d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Project-based Learning in My Gym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28600" y="144792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Helps students retain a lot more knowledg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266688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Helps students develop organizational and research skill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380988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Energizes students and makes them actually WANT to learn and be in schoo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600" y="5029200"/>
            <a:ext cx="747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Gives students a choice and a sense of ownership to what they are learn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How is my Multimedia Interactive?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0" y="167652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Dance-Dance Revolution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tudents can choose a song to dance to depending on ability (speed and rhythm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11480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Fitness Tests Scores Using Excel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tudents can keep track and graph scores in computer lab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191120" y="1676520"/>
            <a:ext cx="3657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Heart Rate Monitors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Students can track their own pulse and figure out how much exercise they are getting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114800" y="4114800"/>
            <a:ext cx="3733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7d47d"/>
                </a:solidFill>
                <a:uFillTx/>
                <a:latin typeface="Arial"/>
              </a:rPr>
              <a:t>Video Camaras</a:t>
            </a:r>
            <a:br>
              <a:rPr sz="2400"/>
            </a:br>
            <a:r>
              <a:rPr b="0" lang="en-US" sz="2400" spc="-1" strike="noStrike">
                <a:solidFill>
                  <a:srgbClr val="f7d47d"/>
                </a:solidFill>
                <a:latin typeface="Arial"/>
              </a:rPr>
              <a:t>We can video students performing skills and analyze their strengths and weakness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9af7d"/>
                </a:solidFill>
                <a:latin typeface="Arial"/>
              </a:rPr>
              <a:t>Self-Assessment of Course Skill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61722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>
            <a:hlinkClick r:id="" action="ppaction://hlinkshowjump?jump=firstslide"/>
          </p:cNvPr>
          <p:cNvPicPr/>
          <p:nvPr/>
        </p:nvPicPr>
        <p:blipFill>
          <a:blip r:embed="rId2"/>
          <a:stretch/>
        </p:blipFill>
        <p:spPr>
          <a:xfrm>
            <a:off x="7086600" y="6134040"/>
            <a:ext cx="723960" cy="7239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334120" y="1523880"/>
            <a:ext cx="1295280" cy="12398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>
            <a:off x="1295280" y="1447920"/>
            <a:ext cx="1371600" cy="12618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04920" y="2895480"/>
            <a:ext cx="3504960" cy="31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7d47d"/>
                </a:solidFill>
                <a:uFillTx/>
                <a:latin typeface="Arial"/>
              </a:rPr>
              <a:t>STRENGTH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Inserting Hyperlink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Adding Images and Tex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Planning Project ahead of tim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Selecting media to enhance powerpoi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Creating Rubrics for Project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67080" y="2895480"/>
            <a:ext cx="3429000" cy="30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7d47d"/>
                </a:solidFill>
                <a:uFillTx/>
                <a:latin typeface="Arial"/>
              </a:rPr>
              <a:t>WEAKNESS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Recording a narration and adding it to PowerPoint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Using Google Doc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Using Wikispace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7d4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f7d47d"/>
                </a:solidFill>
                <a:latin typeface="Arial"/>
              </a:rPr>
              <a:t>Building an Online Portfolio (never had experience with this)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14:16:29Z</dcterms:created>
  <dc:creator>BM</dc:creator>
  <dc:description/>
  <dc:language>en-US</dc:language>
  <cp:lastModifiedBy>BM</cp:lastModifiedBy>
  <dcterms:modified xsi:type="dcterms:W3CDTF">2009-06-06T16:45:22Z</dcterms:modified>
  <cp:revision>22</cp:revision>
  <dc:subject/>
  <dc:title>Slide 1</dc:title>
</cp:coreProperties>
</file>