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5CEE-72A3-4873-B6E0-C20D9EF713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across the country are fighting the battle and WINNING against the question asked by students every year by developing Interactive Multimedia Projects in their class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d some questions when I first starting learning about IMP’s that may or may not be the same questions you have right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– slide follows in order one right after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– slideshow that does not follow a sequential order.  The learner has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Tours – students design and construct a tour through a place using pictures taken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Portfolios – student’s showcase work done electron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Storytelling – tells a story or explains something that happened in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s (research, persuasive, local his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torials – teaches the ‘how to’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– interactive, teaches or review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Focus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) Time to Educate – Staff Development is very essential and cannot be done after school.  Teachers will need efficient time to practice and enhance (in-service day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) Time to Plan – one of the benefits is that it allows teachers to collaborate and work together more (working together helps save tim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) Time students will need to DO projects?  Doing projects IS the education (little instruction time will be needed b/c the student will be learning throughout the project – more one on one time with stud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) Money – teachers can self assess (rubrics) - prove to community, parents, administration that it is working.  Community will want to help fund something that is enhancing their children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) When teachers see the progress, have support from administration, have time to incorporate, experience what it’s like to change and try something fresh and new…teachers WILL buy i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7DC6-6FDE-459B-AD46-088C7CD04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D261-357B-49BE-80B8-17800DD8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3B31-0C0D-47AA-A195-FCF92A510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EAC3-56AD-4C0D-A5A9-26326BDA8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0A08ED-3056-4520-80EE-4F70123C2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555D7-6ED4-457B-B574-8167A66A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195597-9F96-4EC1-A2C8-6CB2D9F5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90D81-7DE9-485F-871F-B3D9C2EA0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101395-2903-45A7-8BF4-3AFBAD2EE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6FA299-822B-4B7A-8DE6-9497B242B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7B61D-0C67-47F5-856C-8C5C31FE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44E9-AC1E-4702-A9E2-EC3CFE11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3B6175-6B20-4C9C-AEE0-6561D2554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6711C9-8AF8-466B-A597-EB5333D4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8B29D-5894-48F5-BEEE-70550E6DC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0A1A32-A6B5-4125-8F6C-C613D388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8CBCEA-CFFC-440A-B921-5A1592AF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2C3A-8B85-4896-87A0-B2FAE3AB8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2754-81AE-4A01-8170-EA7A531F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C22A-0827-47F6-918F-D3E1573B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2A36-3195-465C-997A-7CC5D8AE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D11A-A154-455D-B062-974F1C8E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BFD1-A39E-4372-BA61-CB7416251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89DB-1675-48D1-B9F2-3D480DCB2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1799F-9089-47DF-9D2C-71ECF3C5537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99DC-993C-42B0-8503-C569580FA8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ste.org/AM/Template.cfm?Section=NETS" TargetMode="External"/><Relationship Id="rId2" Type="http://schemas.openxmlformats.org/officeDocument/2006/relationships/hyperlink" Target="http://www.iste.org/AM/Template.cfm?Section=NETS" TargetMode="External"/><Relationship Id="rId3" Type="http://schemas.openxmlformats.org/officeDocument/2006/relationships/hyperlink" Target="http://www.iste.org/AM/Template.cfm?Section=NET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Interactive Multimedia Projec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24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issa Mo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Jones…when are we ever going to use this?!”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53080" y="396252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I HAD WHEN LEARNING ABOUT IMP’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Interactive Multimedia Proje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962520"/>
            <a:ext cx="4114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What are the benefi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228600" y="3809880"/>
            <a:ext cx="426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hat are some concer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2057400"/>
            <a:ext cx="4343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What are some exam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What are Interactive Multimedia Project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developed as the “centerpiece” of the curriculum instead of just an add-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enable students to have real-world experiences and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require collaboration helping students develop and enrich problem-solving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utilize technology in order for students to learn things they otherwise would not have access to inside the school wa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hows (linear and nonlin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T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Portfol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Storyt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much m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BENEFIT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develop and demonstrate creative thin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collaborate and use communication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enhance their research 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utilize critical thinking, problem solving, and decision ma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learn and get comfortable with technology (use more and more in fu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learn legal and ethical use of information and technolo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CONCERN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required to educate th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 time teachers will need to incorporate IMP’s in their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udents will need to DO the projects (take away from instruction time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 needed for training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s won’t “buy in” to the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Resource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s, S., &amp; Krauss, J. (2007)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inventing project-based learning: Your field guide to real-world projects in the digital ag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hington, D.C.: International Society for Technology in Edu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Education Technology Standards: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www.iste.org/AM/Template.cfm?Section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=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scaloosa City Schools. (2003). Unit 5: Multimedia project activities.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ols and Activities for Technology Integ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Retrieved April 16, 2009, from http://www.online.tusc.k12.al.us/shortc/techint/u1-5.htm#mul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22:28:43Z</dcterms:created>
  <dc:creator>BM</dc:creator>
  <dc:description/>
  <dc:language>en-US</dc:language>
  <cp:lastModifiedBy>BM</cp:lastModifiedBy>
  <dcterms:modified xsi:type="dcterms:W3CDTF">2009-06-14T00:21:51Z</dcterms:modified>
  <cp:revision>16</cp:revision>
  <dc:subject/>
  <dc:title>Slide 1</dc:title>
</cp:coreProperties>
</file>