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1BB0-99A6-41A7-AE94-2479C5CB2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across the country are fighting the battle and WINNING against the question asked by students every year by developing Interactive Multimedia Projects in thei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d some questions when I first starting learning about IMP’s that may or may not be the same questions you have right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– slide follows in order one right after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– slideshow that does not follow a sequential order.  The learner has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Tours – students design and construct a tour through a place using pictures taken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Portfolios – student’s showcase work done electron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Storytelling – tells a story or explains something that happened in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s (research, persuasive, local his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torials – teaches the ‘how to’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– interactive, teaches or review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Focus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) Time to Educate – Staff Development is very essential and cannot be done after school.  Teachers will need efficient time to practice and enhance (in-service day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) Time to Plan – one of the benefits is that it allows teachers to collaborate and work together more (working together helps save tim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) Time students will need to DO projects?  Doing projects IS the education (little instruction time will be needed b/c the student will be learning throughout the project – more one on one time with stud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) Money – teachers can self assess (rubrics) - prove to community, parents, administration that it is working.  Community will want to help fund something that is enhancing their children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) When teachers see the progress, have support from administration, have time to incorporate, experience what it’s like to change and try something fresh and new…teachers WILL buy i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51A-D4DF-4ADA-80B1-52E711A6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E69-BF5B-48E4-A9FB-8E9F7C39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97B-A2E2-4B69-A8D5-B915E368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893-60BD-47AB-874B-34144EDE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B7A3D-EEDC-47AF-B481-03110887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1FFD7-874E-427E-84E5-D75B81F8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CDEF-F154-48A9-8231-1967429D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624DA-5EE0-4C9C-9B58-73DE58C8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0817E-3820-4802-A0A1-51327848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8D0F0-96D7-409A-B744-8EC3A9F3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DF982-B5C7-4BC6-B003-FDA338B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20C-8F04-4834-B0ED-28A1A538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A04A6-A83B-4BF7-9B4C-70D01981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05D4F-EAA9-42DD-81DA-86CF287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489F1-CC5B-4EEE-A636-541D865E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BD479-26B3-49C8-A37C-D813D385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BE1B3-EB20-4C81-B0BD-0A9FE88A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F52-7D89-4AA1-BC36-9CF545D9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B69-AD34-41CC-80C7-DEA90AF3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532-50C6-4D82-9971-453EDED4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661-8C07-4D05-940A-E4B9AC9D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59A-0FF5-4C95-B151-B02F45C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F8A-0DDE-4D15-88C8-274F209B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8B9-7C5E-4FAE-9409-FF0B06F3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3ACF-5DEB-48E7-9691-8F4EEA0F58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143-7F16-4AD9-AC9A-D6DC9221B5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te.org/AM/Template.cfm?Section=NETS" TargetMode="External"/><Relationship Id="rId2" Type="http://schemas.openxmlformats.org/officeDocument/2006/relationships/hyperlink" Target="http://www.iste.org/AM/Template.cfm?Section=NETS" TargetMode="External"/><Relationship Id="rId3" Type="http://schemas.openxmlformats.org/officeDocument/2006/relationships/hyperlink" Target="http://www.iste.org/AM/Template.cfm?Section=NET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Interactive Multimedia Projec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issa Mo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Jones…when are we ever going to use this?!”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53080" y="396252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I HAD WHEN LEARNING ABOUT IMP’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Interactive Multimedia Proje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962520"/>
            <a:ext cx="4114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What are the benefi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228600" y="3809880"/>
            <a:ext cx="426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at are some concer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057400"/>
            <a:ext cx="4343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What are some exam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What are Interactive Multimedia Project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developed as the “centerpiece” of the curriculum instead of just an add-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enable students to have real-world experiences and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require collaboration helping students develop and enrich problem-solving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utilize technology in order for students to learn things they otherwise would not have access to inside the school wa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hows (linear and nonlin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T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Portfol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toryt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much m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BENEFIT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develop and demonstrate creative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collaborate and use communication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enhance their research 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utilize critical thinking, problem solving, and decision m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learn and get comfortable with technology (use more and more in fu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learn legal and ethical use of information and technolo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CONCERN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required to educate th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 time teachers will need to incorporate IMP’s in their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udents will need to DO the projects (take away from instruction tim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needed for training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s won’t “buy in” to the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Resourc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s, S., &amp; Krauss, J. (2007)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inventing project-based learning: Your field guide to real-world projects in the digital ag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hington, D.C.: International Society for Technology in Edu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Education Technology Standards: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www.iste.org/AM/Template.cfm?Section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=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scaloosa City Schools. (2003). Unit 5: Multimedia project activities.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ols and Activities for Technology 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Retrieved April 16, 2009, from http://www.online.tusc.k12.al.us/shortc/techint/u1-5.htm#mul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22:28:43Z</dcterms:created>
  <dc:creator>BM</dc:creator>
  <dc:description/>
  <dc:language>en-US</dc:language>
  <cp:lastModifiedBy>BM</cp:lastModifiedBy>
  <dcterms:modified xsi:type="dcterms:W3CDTF">2009-06-14T00:21:51Z</dcterms:modified>
  <cp:revision>16</cp:revision>
  <dc:subject/>
  <dc:title>Slide 1</dc:title>
</cp:coreProperties>
</file>