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A091-09DE-4BD8-B777-55BBD9387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cross the country are fighting the battle and WINNING against the question asked by students every year by developing Interactive Multimedia Projects in thei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d some questions when I first starting learning about IMP’s that may or may not be the same questions you have right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– slide follows in order one right after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– slideshow that does not follow a sequential order.  The learner has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Tours – students design and construct a tour through a place using pictures taken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Portfolios – student’s showcase work done electron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Storytelling – tells a story or explains something that happened in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s (research, persuasive, local his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torials – teaches the ‘how to’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– interactive, teaches or review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Focus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Time to Educate – Staff Development is very essential and cannot be done after school.  Teachers will need efficient time to practice and enhance (in-service day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Time to Plan – one of the benefits is that it allows teachers to collaborate and work together more (working together helps save tim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Time students will need to DO projects?  Doing projects IS the education (little instruction time will be needed b/c the student will be learning throughout the project – more one on one time with stud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Money – teachers can self assess (rubrics) - prove to community, parents, administration that it is working.  Community will want to help fund something that is enhancing their children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) When teachers see the progress, have support from administration, have time to incorporate, experience what it’s like to change and try something fresh and new…teachers WILL buy i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8462-8477-4743-8AD4-141752AFC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7BE-4A84-4581-A410-F49C10DD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788D-7233-4E7F-99F9-DD0AFFB4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E34-4749-4A7F-B950-F40D17895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BA98D0-8781-48E7-BD0E-9FF46B7C8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54707-E754-436C-9FEE-1F628A9E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6ADEAA-9E0F-4698-A3F9-0C803A8F8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9CB741-F386-4EBA-A27E-C328EAEB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D29678-040C-45A4-A118-7DF09B08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2C71C-002D-45B7-B229-1A1ED56D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9E44F-341B-4CFC-8128-E7BBAAE7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8E4-87CD-4D98-B38F-66324B7D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E1D7A-53AE-4E25-ADD3-0AE01E2F4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1C84CC-ACA1-4C9F-A13A-B76AE543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6C1645-ACEF-4660-806F-2E9C78BD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3B5EE7-5498-4AFE-A93B-01F142B9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A006A-2C1D-4554-97FF-A0CD80786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15A10-F2BE-48BA-A709-887894687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588A-9872-46D9-984E-539E61D6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CE35-E31B-4F99-A746-FB0D339F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4785-6C72-4573-AC7C-76DD594B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F41-E3EB-444E-BB45-B9B3B9A78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FB66-B577-4ABF-B6D3-6DB18B12F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A5F2-72E0-4553-AA68-3274DD47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F891C-9443-4446-B832-19AA638A5D5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7702-5E22-4BD1-A2EC-953A7CF199C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te.org/AM/Template.cfm?Section=NETS" TargetMode="External"/><Relationship Id="rId2" Type="http://schemas.openxmlformats.org/officeDocument/2006/relationships/hyperlink" Target="http://www.iste.org/AM/Template.cfm?Section=NETS" TargetMode="External"/><Relationship Id="rId3" Type="http://schemas.openxmlformats.org/officeDocument/2006/relationships/hyperlink" Target="http://www.iste.org/AM/Template.cfm?Section=NET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Interactive Multimedia Projec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issa Mo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Jones…when are we ever going to use this?!”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I HAD WHEN LEARNING ABOUT IMP’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Interactive Multimedia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962520"/>
            <a:ext cx="4114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What are the benef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228600" y="3809880"/>
            <a:ext cx="426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at are some concer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05740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What are some 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What are Interactive Multimedia Projec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developed as the “centerpiece” of the curriculum instead of just an add-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enable students to have real-world experiences and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require collaboration helping students develop and enrich problem-solving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utilize technology in order for students to learn things they otherwise would not have access to inside the school wa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s (linear and nonlin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T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Portfol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much m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develop and demonstrate creative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collaborate and use communication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enhance their research 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utilize critical thinking, problem solving, and decision m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learn and get comfortable with technology (use more and more in fu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learn legal and ethical use of information and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CONCERN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required to educate th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 time teachers will need to incorporate IMP’s in their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udents will need to DO the projects (take away from instruction tim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needed for training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won’t “buy in” to the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s, S., &amp; Krauss, J. (2007)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nventing project-based learning: Your field guide to real-world projects in the digital ag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ington, D.C.: International Society for Technology in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Education Technology Standards: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iste.org/AM/Template.cfm?Section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scaloosa City Schools. (2003). Unit 5: Multimedia project activities.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ols and Activities for Technology 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Retrieved April 16, 2009, from http://www.online.tusc.k12.al.us/shortc/techint/u1-5.htm#mul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22:28:43Z</dcterms:created>
  <dc:creator>BM</dc:creator>
  <dc:description/>
  <dc:language>en-US</dc:language>
  <cp:lastModifiedBy>BM</cp:lastModifiedBy>
  <dcterms:modified xsi:type="dcterms:W3CDTF">2009-06-14T00:21:51Z</dcterms:modified>
  <cp:revision>16</cp:revision>
  <dc:subject/>
  <dc:title>Slide 1</dc:title>
</cp:coreProperties>
</file>