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C4A5-7FE3-4EEB-8273-92421BA1C7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achers across the country are fighting the battle and WINNING against the question asked by students every year by developing Interactive Multimedia Projects in their classro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had some questions when I first starting learning about IMP’s that may or may not be the same questions you have right now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ar – slide follows in order one right after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linear – slideshow that does not follow a sequential order.  The learner has cho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Tours – students design and construct a tour through a place using pictures taken previous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ine Portfolios – student’s showcase work done electron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gital Storytelling – tells a story or explains something that happened in hi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entations (research, persuasive, local histor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torials – teaches the ‘how to’ step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mes – interactive, teaches or review inf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 Focus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) Time to Educate – Staff Development is very essential and cannot be done after school.  Teachers will need efficient time to practice and enhance (in-service day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) Time to Plan – one of the benefits is that it allows teachers to collaborate and work together more (working together helps save time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) Time students will need to DO projects?  Doing projects IS the education (little instruction time will be needed b/c the student will be learning throughout the project – more one on one time with student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) Money – teachers can self assess (rubrics) - prove to community, parents, administration that it is working.  Community will want to help fund something that is enhancing their children’s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) When teachers see the progress, have support from administration, have time to incorporate, experience what it’s like to change and try something fresh and new…teachers WILL buy in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9054-CAE5-4363-94ED-FF028BA86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057B-8A86-4450-976E-425C00B09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DF27-DA8C-4439-A379-6C52D5988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50C8F-8163-4165-879D-86A815574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55769-220A-47B9-AD02-E216E3A49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B469DA-C273-4106-8534-AA250FE5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71450F-4FB5-4FDE-BEEA-CB9404242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1501AE-2B73-4BF0-B938-AC367535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38F2D-FD9F-4615-BC0B-06F99F6E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4E60B-8B1D-46D7-966F-8274299B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CD4C0D-9E99-4411-85C1-853FF6A2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6CDD-531A-4DAF-B1B0-120F540E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2F467-A892-4720-895D-A7BC9C53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0280BD-57CE-4DB3-8AA1-FD9691A2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E08722-34C8-4FA9-827B-03AB079E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13BC5E-B0F8-40F4-A78E-5194D022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E19A8-F742-488A-9D5C-14E8790C0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92D-DC60-49EC-BBDD-ED186B245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A598-39EB-4282-8E1E-808EDE0E6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40C-FF36-468C-BC45-E58E69569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ECB3-615B-42B9-85E1-A84F125FC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359-1A66-45B8-BFED-64B9C8C9E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3B3E-4D4C-41D2-B5C7-4284EF1A5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0907-D1F3-45A1-9889-BB0F965F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8A0C-A834-400B-8BE7-2A0C3BAD086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EAE4D-6ACE-49A0-9A1A-524A81968D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7.xml"/><Relationship Id="rId4" Type="http://schemas.openxmlformats.org/officeDocument/2006/relationships/slide" Target="slide5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ste.org/AM/Template.cfm?Section=NETS" TargetMode="External"/><Relationship Id="rId2" Type="http://schemas.openxmlformats.org/officeDocument/2006/relationships/hyperlink" Target="http://www.iste.org/AM/Template.cfm?Section=NETS" TargetMode="External"/><Relationship Id="rId3" Type="http://schemas.openxmlformats.org/officeDocument/2006/relationships/hyperlink" Target="http://www.iste.org/AM/Template.cfm?Section=NETS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980720"/>
            <a:ext cx="82296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ffcc"/>
                </a:solidFill>
                <a:latin typeface="Arial"/>
              </a:rPr>
              <a:t>Interactive Multimedia Projects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2481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lissa Mot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Mr. Jones…when are we ever going to use this?!”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53080" y="3962520"/>
            <a:ext cx="16257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 I HAD WHEN LEARNING ABOUT IMP’S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114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are Interactive Multimedia Projec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3962520"/>
            <a:ext cx="4114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1" action="ppaction://hlinksldjump"/>
              </a:rPr>
              <a:t>What are the benefit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>
            <a:hlinkClick r:id="rId2" action="ppaction://hlinksldjump"/>
          </p:cNvPr>
          <p:cNvSpPr/>
          <p:nvPr/>
        </p:nvSpPr>
        <p:spPr>
          <a:xfrm>
            <a:off x="228600" y="3809880"/>
            <a:ext cx="4267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3" action="ppaction://hlinksldjump"/>
              </a:rPr>
              <a:t>What are some concer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2057400"/>
            <a:ext cx="4343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ffcc"/>
                </a:solidFill>
                <a:uFillTx/>
                <a:latin typeface="Arial"/>
                <a:hlinkClick r:id="rId4" action="ppaction://hlinksldjump"/>
              </a:rPr>
              <a:t>What are some examp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ffcc"/>
                </a:solidFill>
                <a:latin typeface="Arial"/>
              </a:rPr>
              <a:t>What are Interactive Multimedia Projects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developed as the “centerpiece” of the curriculum instead of just an add-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enable students to have real-world experiences and activ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require collaboration helping students develop and enrich problem-solving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jects that utilize technology in order for students to learn things they otherwise would not have access to inside the school wa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6212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lideshows (linear and nonline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irtual Tou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nline Portfol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gital Storytel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utori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 much more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BENEFIT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develop and demonstrate creative thin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collaborate and use communication ski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enhance their research abiliti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utilize critical thinking, problem solving, and decision making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are able to learn and get comfortable with technology (use more and more in futu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 learn legal and ethical use of information and technolo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CONCERN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620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required to educate the teac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ra time teachers will need to incorporate IMP’s in their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udents will need to DO the projects (take away from instruction time?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ey needed for training an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achers won’t “buy in” to the ide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29600" y="5943600"/>
            <a:ext cx="723960" cy="7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</a:rPr>
              <a:t>Resources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ss, S., &amp; Krauss, J. (2007).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inventing project-based learning: Your field guide to real-world projects in the digital ag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shington, D.C.: International Society for Technology in Educatio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Education Technology Standards: 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2"/>
              </a:rPr>
              <a:t>www.iste.org/AM/Template.cfm?Section</a:t>
            </a:r>
            <a:r>
              <a:rPr b="0" lang="en-US" sz="2400" spc="-1" strike="noStrike" u="sng">
                <a:solidFill>
                  <a:srgbClr val="00ffcc"/>
                </a:solidFill>
                <a:uFillTx/>
                <a:latin typeface="Arial"/>
                <a:hlinkClick r:id="rId3"/>
              </a:rPr>
              <a:t>=N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scaloosa City Schools. (2003). Unit 5: Multimedia project activities. I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ools and Activities for Technology Integ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Retrieved April 16, 2009, from http://www.online.tusc.k12.al.us/shortc/techint/u1-5.htm#multic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3T22:28:43Z</dcterms:created>
  <dc:creator>BM</dc:creator>
  <dc:description/>
  <dc:language>en-US</dc:language>
  <cp:lastModifiedBy>BM</cp:lastModifiedBy>
  <dcterms:modified xsi:type="dcterms:W3CDTF">2009-06-14T00:21:51Z</dcterms:modified>
  <cp:revision>16</cp:revision>
  <dc:subject/>
  <dc:title>Slide 1</dc:title>
</cp:coreProperties>
</file>