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559C-CC57-4520-9A3D-DE520F5D0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cross the country are fighting the battle and WINNING against the question asked by students every year by developing Interactive Multimedia Projects in thei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d some questions when I first starting learning about IMP’s that may or may not be the same questions you have right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– slide follows in order one right after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– slideshow that does not follow a sequential order.  The learner has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Tours – students design and construct a tour through a place using pictures taken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Portfolios – student’s showcase work done electron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Storytelling – tells a story or explains something that happened in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s (research, persuasive, local his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torials – teaches the ‘how to’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– interactive, teaches or review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Focus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Time to Educate – Staff Development is very essential and cannot be done after school.  Teachers will need efficient time to practice and enhance (in-service day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Time to Plan – one of the benefits is that it allows teachers to collaborate and work together more (working together helps save tim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Time students will need to DO projects?  Doing projects IS the education (little instruction time will be needed b/c the student will be learning throughout the project – more one on one time with stud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Money – teachers can self assess (rubrics) - prove to community, parents, administration that it is working.  Community will want to help fund something that is enhancing their children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) When teachers see the progress, have support from administration, have time to incorporate, experience what it’s like to change and try something fresh and new…teachers WILL buy i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95B-F99E-4007-B702-5E5EDC0B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2B3-C131-4D81-B961-1A0A992D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49E-6C54-4EF3-926A-553668FA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194-B9F7-4308-A55D-4A5A0D6E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DC8E3-A79A-4745-8864-EC305957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22449-C918-47DC-8F25-D4CCA52A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06F5E-B942-470B-A7D6-D727CE18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FB265-3FD9-4BD8-9F4B-3AF7BA09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ED508-3947-434B-B04F-B8830EBF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0290A-BE4F-4F1A-AABF-6E3343B1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3A5F1-DE38-461C-8BB9-FBA1D825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CD7-B7CF-4BC2-B730-616B97DA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C7590-D231-46A9-ACBD-F449452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8D190-C6AE-4FBB-AB94-B66E62A4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62926-1E62-4D7A-8D0D-2875313D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496FD-0A2A-422C-9DC0-6915C71E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5E196-7428-465D-9848-4563615A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A41-7F40-4A29-ABEC-D1E35CCD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597-1B47-4D6D-8E66-ED9875C0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1B6-9903-4AE6-8868-1C0BBBA0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9CA-0B40-4166-96B7-E1652544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FBC-BC1B-4036-AA5C-F74610C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0D7-40FA-4F7B-BD15-41B26E5E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700-4697-4986-B85D-A21E059A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3F85-233D-44A3-ACA4-F4495D7F0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BDB-F9EB-49DF-8E97-676B16F35C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te.org/AM/Template.cfm?Section=NETS" TargetMode="External"/><Relationship Id="rId2" Type="http://schemas.openxmlformats.org/officeDocument/2006/relationships/hyperlink" Target="http://www.iste.org/AM/Template.cfm?Section=NETS" TargetMode="External"/><Relationship Id="rId3" Type="http://schemas.openxmlformats.org/officeDocument/2006/relationships/hyperlink" Target="http://www.iste.org/AM/Template.cfm?Section=NET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Interactive Multimedia Projec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issa Mo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Jones…when are we ever going to use this?!”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I HAD WHEN LEARNING ABOUT IMP’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Interactive Multimedia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962520"/>
            <a:ext cx="4114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What are the benef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228600" y="3809880"/>
            <a:ext cx="426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at are some concer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05740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What are some 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What are Interactive Multimedia Projec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developed as the “centerpiece” of the curriculum instead of just an add-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enable students to have real-world experiences and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require collaboration helping students develop and enrich problem-solving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utilize technology in order for students to learn things they otherwise would not have access to inside the school wa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s (linear and nonlin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T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Portfol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much m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develop and demonstrate creative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collaborate and use communication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enhance their research 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utilize critical thinking, problem solving, and decision m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learn and get comfortable with technology (use more and more in fu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learn legal and ethical use of information and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CONCERN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required to educate th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 time teachers will need to incorporate IMP’s in their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udents will need to DO the projects (take away from instruction tim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needed for training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won’t “buy in” to the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s, S., &amp; Krauss, J. (2007)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nventing project-based learning: Your field guide to real-world projects in the digital ag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ington, D.C.: International Society for Technology in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Education Technology Standards: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iste.org/AM/Template.cfm?Section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scaloosa City Schools. (2003). Unit 5: Multimedia project activities.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ols and Activities for Technology 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Retrieved April 16, 2009, from http://www.online.tusc.k12.al.us/shortc/techint/u1-5.htm#mul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22:28:43Z</dcterms:created>
  <dc:creator>BM</dc:creator>
  <dc:description/>
  <dc:language>en-US</dc:language>
  <cp:lastModifiedBy>BM</cp:lastModifiedBy>
  <dcterms:modified xsi:type="dcterms:W3CDTF">2009-06-14T00:21:51Z</dcterms:modified>
  <cp:revision>16</cp:revision>
  <dc:subject/>
  <dc:title>Slide 1</dc:title>
</cp:coreProperties>
</file>